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C720-61B6-4735-9DD1-0F13714081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id Everything Beg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om single-celled organisms to complex creature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selection- helpful traits vs. harmful trai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daptation- best suited fo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drift- independent process that produces random changes;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ersification in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mbrian Expl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escent of Man and the Attacks on 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Sto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ozoic Era (“Age of Mammal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2.5 million years ag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Savan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including prim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chimpanzees share a common ancestor between 7 to 6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are happy swinging in trees, why come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dences found in the Great Rift Valley, savannas on the Eastern part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iculty in knuckle walking → adapt to bipeda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ators abound → flight or fight, shelter and pro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ed plants → change in diet, enriched food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ern Ap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opithe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to 1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similar to humans and 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able brain size with a chimpanz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afarensis 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o murampa na ni siy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pedal; hands like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. afric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ucy in the Sky with Diam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Handy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habi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to 1.5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able thumbs- efficient means of handling things and creating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iginal Laa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erec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million years to 200,000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brains, t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king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lligent Design Theori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Creation My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Taller, Smarter, Wis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Homo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Arial"/>
              </a:rPr>
              <a:t>Cro-magn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est of them 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o sapiens sapi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Stories from Around the Worl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how the world bega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of them u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arth has existed for 4.5 billion years, what about life on earth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early as 3.8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 was stable enough to support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bonucleic Acid (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er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 the ocean, based on evi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p sea 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ker fossils in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843-9087-496E-9EDC-1451269C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674-F104-41B8-AB41-6C31489D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CD8-A602-46E4-B307-0C4AC98B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012-79A9-4D9F-9A97-220E6B92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39D8-72F0-48F1-A645-46AB3D84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D239-AC82-4EF4-9A5C-3A8A3BC1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AFFA-1220-4EB7-8BFE-6A3BD614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B2C-211C-48CC-AB7C-0C417332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3DBA-FC62-465F-8662-59580021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7628-8A97-4FD2-8F0D-741AC151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B87-75EB-458D-9508-EA65C2B8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DA3-CBB4-4D24-B6F5-F6D15933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8BA7-8F2B-4AED-80B8-71F3004A31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3ebf1"/>
                </a:solidFill>
                <a:latin typeface="Arial"/>
              </a:rPr>
              <a:t>A Brief History of Life</a:t>
            </a:r>
            <a:endParaRPr b="0" lang="en-US" sz="6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id Everything Beg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rom single-celled organisms to complex creatures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200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volu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ural selection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ful traits vs. harmful trait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daptation- best suited for environ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tic drift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dependent process that produces random changes; ch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cation in n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10" descr="darwin"/>
          <p:cNvPicPr/>
          <p:nvPr/>
        </p:nvPicPr>
        <p:blipFill>
          <a:blip r:embed="rId1"/>
          <a:stretch/>
        </p:blipFill>
        <p:spPr>
          <a:xfrm>
            <a:off x="3352680" y="3429000"/>
            <a:ext cx="2428920" cy="3124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origin of species"/>
          <p:cNvPicPr/>
          <p:nvPr/>
        </p:nvPicPr>
        <p:blipFill>
          <a:blip r:embed="rId2"/>
          <a:stretch/>
        </p:blipFill>
        <p:spPr>
          <a:xfrm>
            <a:off x="5638680" y="1751040"/>
            <a:ext cx="2903760" cy="381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Charles_Darwin"/>
          <p:cNvPicPr/>
          <p:nvPr/>
        </p:nvPicPr>
        <p:blipFill>
          <a:blip r:embed="rId3"/>
          <a:stretch/>
        </p:blipFill>
        <p:spPr>
          <a:xfrm>
            <a:off x="3941640" y="1447920"/>
            <a:ext cx="1706760" cy="2286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cambrian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ambrian Explo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89" name="Picture 5" descr="cambrian explosion"/>
          <p:cNvPicPr/>
          <p:nvPr/>
        </p:nvPicPr>
        <p:blipFill>
          <a:blip r:embed="rId1"/>
          <a:stretch/>
        </p:blipFill>
        <p:spPr>
          <a:xfrm>
            <a:off x="1066680" y="1371600"/>
            <a:ext cx="7162920" cy="5133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Descent of Man and the Attacks on Evolution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92" name="Picture 5" descr="Darwin_ape"/>
          <p:cNvPicPr/>
          <p:nvPr/>
        </p:nvPicPr>
        <p:blipFill>
          <a:blip r:embed="rId1"/>
          <a:stretch/>
        </p:blipFill>
        <p:spPr>
          <a:xfrm>
            <a:off x="1066680" y="1828800"/>
            <a:ext cx="317340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EvolutionDarwinism"/>
          <p:cNvPicPr/>
          <p:nvPr/>
        </p:nvPicPr>
        <p:blipFill>
          <a:blip r:embed="rId2"/>
          <a:stretch/>
        </p:blipFill>
        <p:spPr>
          <a:xfrm>
            <a:off x="4648320" y="1828800"/>
            <a:ext cx="3528720" cy="4525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Human Story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nozoic Era (“Age of Mammals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ound 2.5 million years ag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n Savan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mmals including pr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mans and chimpanzees share a common ancestor between 7 to 6 m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f they are happy swinging in trees, why come down?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idences found in th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reat Rift Valley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vannas on the Eastern part of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knuckle walking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 to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ped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ators abound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 flight or fight, shelter and prot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attered plants → change in diet, enriched food s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Southern Ape”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stralopithe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to 1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racteristics similar to humans and a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 brain size with a chimpanze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. afarensi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a afarensis"/>
          <p:cNvPicPr/>
          <p:nvPr/>
        </p:nvPicPr>
        <p:blipFill>
          <a:blip r:embed="rId1"/>
          <a:stretch/>
        </p:blipFill>
        <p:spPr>
          <a:xfrm>
            <a:off x="4495680" y="1743120"/>
            <a:ext cx="4343400" cy="45054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o murampa na ni siya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05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pedal; hands like 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. african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009920" y="5181120"/>
            <a:ext cx="21337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uc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the Sky with Diamo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a africanus"/>
          <p:cNvPicPr/>
          <p:nvPr/>
        </p:nvPicPr>
        <p:blipFill>
          <a:blip r:embed="rId1"/>
          <a:stretch/>
        </p:blipFill>
        <p:spPr>
          <a:xfrm>
            <a:off x="380880" y="312408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lucy"/>
          <p:cNvPicPr/>
          <p:nvPr/>
        </p:nvPicPr>
        <p:blipFill>
          <a:blip r:embed="rId2"/>
          <a:stretch/>
        </p:blipFill>
        <p:spPr>
          <a:xfrm>
            <a:off x="4267080" y="1447920"/>
            <a:ext cx="2743200" cy="50418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r. Handy M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hab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5 to 1.5 m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sable thumbs- efficient means of handling things and crea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Original Laaga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116" name="Picture 5" descr="peking man"/>
          <p:cNvPicPr/>
          <p:nvPr/>
        </p:nvPicPr>
        <p:blipFill>
          <a:blip r:embed="rId1"/>
          <a:stretch/>
        </p:blipFill>
        <p:spPr>
          <a:xfrm>
            <a:off x="685800" y="1447920"/>
            <a:ext cx="371808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erec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 million years to 200,000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gger brains, tal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←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king 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homo erectus"/>
          <p:cNvPicPr/>
          <p:nvPr/>
        </p:nvPicPr>
        <p:blipFill>
          <a:blip r:embed="rId2"/>
          <a:stretch/>
        </p:blipFill>
        <p:spPr>
          <a:xfrm>
            <a:off x="5105520" y="4114800"/>
            <a:ext cx="2743200" cy="25369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Intelligent Design Theories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(Creation Myths)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8" descr="greek pantheon"/>
          <p:cNvPicPr/>
          <p:nvPr/>
        </p:nvPicPr>
        <p:blipFill>
          <a:blip r:embed="rId1"/>
          <a:stretch/>
        </p:blipFill>
        <p:spPr>
          <a:xfrm>
            <a:off x="457200" y="1832040"/>
            <a:ext cx="4343400" cy="41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orse"/>
          <p:cNvPicPr/>
          <p:nvPr/>
        </p:nvPicPr>
        <p:blipFill>
          <a:blip r:embed="rId2"/>
          <a:stretch/>
        </p:blipFill>
        <p:spPr>
          <a:xfrm>
            <a:off x="4952880" y="1751040"/>
            <a:ext cx="3353040" cy="4267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aller, Smarter, Wiser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o sapie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-magn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neanderthal skeleton"/>
          <p:cNvPicPr/>
          <p:nvPr/>
        </p:nvPicPr>
        <p:blipFill>
          <a:blip r:embed="rId1"/>
          <a:stretch/>
        </p:blipFill>
        <p:spPr>
          <a:xfrm>
            <a:off x="5105520" y="1676520"/>
            <a:ext cx="2334960" cy="495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neanderthal child"/>
          <p:cNvPicPr/>
          <p:nvPr/>
        </p:nvPicPr>
        <p:blipFill>
          <a:blip r:embed="rId2"/>
          <a:stretch/>
        </p:blipFill>
        <p:spPr>
          <a:xfrm>
            <a:off x="1143000" y="3352680"/>
            <a:ext cx="2560680" cy="32004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isest of them all?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mo sapiens sapi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intramurals (42)"/>
          <p:cNvPicPr/>
          <p:nvPr/>
        </p:nvPicPr>
        <p:blipFill>
          <a:blip r:embed="rId1"/>
          <a:stretch/>
        </p:blipFill>
        <p:spPr>
          <a:xfrm>
            <a:off x="457200" y="22860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DSC01755"/>
          <p:cNvPicPr/>
          <p:nvPr/>
        </p:nvPicPr>
        <p:blipFill>
          <a:blip r:embed="rId2"/>
          <a:stretch/>
        </p:blipFill>
        <p:spPr>
          <a:xfrm>
            <a:off x="3505320" y="2362320"/>
            <a:ext cx="4952880" cy="424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DSC00011"/>
          <p:cNvPicPr/>
          <p:nvPr/>
        </p:nvPicPr>
        <p:blipFill>
          <a:blip r:embed="rId3"/>
          <a:stretch/>
        </p:blipFill>
        <p:spPr>
          <a:xfrm>
            <a:off x="380880" y="4572000"/>
            <a:ext cx="2971800" cy="19810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77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0" dur="770" fill="hold"/>
                                        <p:tgtEl>
                                          <p:spTgt spid="1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2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5,-118,7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8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More Stories from Around the World…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57" name="Picture 4" descr="african gods"/>
          <p:cNvPicPr/>
          <p:nvPr/>
        </p:nvPicPr>
        <p:blipFill>
          <a:blip r:embed="rId1"/>
          <a:stretch/>
        </p:blipFill>
        <p:spPr>
          <a:xfrm>
            <a:off x="533520" y="1752480"/>
            <a:ext cx="2971800" cy="4496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nut"/>
          <p:cNvPicPr/>
          <p:nvPr/>
        </p:nvPicPr>
        <p:blipFill>
          <a:blip r:embed="rId2"/>
          <a:stretch/>
        </p:blipFill>
        <p:spPr>
          <a:xfrm>
            <a:off x="3809880" y="1752480"/>
            <a:ext cx="5029200" cy="4419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n how the world began…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1" name="Picture 8" descr="vishnu-painting"/>
          <p:cNvPicPr/>
          <p:nvPr/>
        </p:nvPicPr>
        <p:blipFill>
          <a:blip r:embed="rId1"/>
          <a:stretch/>
        </p:blipFill>
        <p:spPr>
          <a:xfrm>
            <a:off x="380880" y="1523880"/>
            <a:ext cx="525780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Izanami_and_izanagi"/>
          <p:cNvPicPr/>
          <p:nvPr/>
        </p:nvPicPr>
        <p:blipFill>
          <a:blip r:embed="rId2"/>
          <a:stretch/>
        </p:blipFill>
        <p:spPr>
          <a:xfrm>
            <a:off x="5943600" y="1295280"/>
            <a:ext cx="2492280" cy="51818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ll of them uniqu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65" name="Picture 10" descr="quetzalcoatl"/>
          <p:cNvPicPr/>
          <p:nvPr/>
        </p:nvPicPr>
        <p:blipFill>
          <a:blip r:embed="rId1"/>
          <a:stretch/>
        </p:blipFill>
        <p:spPr>
          <a:xfrm>
            <a:off x="228600" y="1981080"/>
            <a:ext cx="4572000" cy="380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alakas at maganda"/>
          <p:cNvPicPr/>
          <p:nvPr/>
        </p:nvPicPr>
        <p:blipFill>
          <a:blip r:embed="rId2"/>
          <a:stretch/>
        </p:blipFill>
        <p:spPr>
          <a:xfrm>
            <a:off x="4840200" y="1600200"/>
            <a:ext cx="3819600" cy="441792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big ba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gbang2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If the earth has existed for 4.5 billion years, what about </a:t>
            </a:r>
            <a:r>
              <a:rPr b="1" lang="en-US" sz="3200" spc="-1" strike="noStrike">
                <a:solidFill>
                  <a:srgbClr val="e3ebf1"/>
                </a:solidFill>
                <a:latin typeface="Arial"/>
              </a:rPr>
              <a:t>life on earth</a:t>
            </a: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liest evidence: cyanobacteria called stromatolites (3.4 billion years), in Austral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early as 3.8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 was stable enough to support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bonucleic Acid (R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6" descr="RNA"/>
          <p:cNvPicPr/>
          <p:nvPr/>
        </p:nvPicPr>
        <p:blipFill>
          <a:blip r:embed="rId1"/>
          <a:stretch/>
        </p:blipFill>
        <p:spPr>
          <a:xfrm>
            <a:off x="4191120" y="182880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ut where? 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the ocean, based on evid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ss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ea micro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oker fossils in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8" descr="smoker fossil"/>
          <p:cNvPicPr/>
          <p:nvPr/>
        </p:nvPicPr>
        <p:blipFill>
          <a:blip r:embed="rId1"/>
          <a:stretch/>
        </p:blipFill>
        <p:spPr>
          <a:xfrm>
            <a:off x="304920" y="1676520"/>
            <a:ext cx="4190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06:45:49Z</dcterms:created>
  <dc:creator>deiyow_t</dc:creator>
  <dc:description/>
  <dc:language>en-US</dc:language>
  <cp:lastModifiedBy>LEGION</cp:lastModifiedBy>
  <dcterms:modified xsi:type="dcterms:W3CDTF">2017-07-03T10:03:28Z</dcterms:modified>
  <cp:revision>9</cp:revision>
  <dc:subject/>
  <dc:title>A Brief History of Life</dc:title>
</cp:coreProperties>
</file>